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508-4102-46A3-A18D-77E7C7EB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DE6-0DE7-423A-81FD-F813856F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7A051-0C25-47EE-A4BF-E25A42D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8ACA-F54A-44A1-93BD-89A2EBC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0F3B1-8B06-4BD1-99D1-5F235DB2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3D217-D4DE-42BD-8644-F855F71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510AC-7D87-4993-8D19-5FB32812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DE149-22A8-4F94-B849-D5421F85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928A1-7764-4195-A72D-54C3BA2B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EC65A-E1EB-4535-B50E-F6AD5493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CDB29-8219-4B21-A0A9-9BC5D34C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E0061-0640-40F0-8997-B8BA567E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9363-2B12-46DD-B146-4774007E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0FF4F-81AE-422C-A43F-7E5C126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BF467-1439-4058-A893-C5DA30A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FD2D8-04BE-4E5C-831D-2AB1237F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04381-6190-4FB4-9CEB-5EDC9D07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57750-A930-4614-9853-1A5A8BA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CA770-47C6-40EE-9958-4E7552C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BBC7D-CA1F-4278-985A-0709CF77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D530A-C497-47C6-839E-9D0345E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CD1DE-A8F7-4AEA-82B7-9DC8B025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EE944-AD0B-45E9-B2FD-9945FC03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CC3-58B9-4D76-82D6-337AA705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6611A-0890-4B90-A97F-D5F48CA2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0B962-D25E-4409-9559-1E28BFC9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AEDD7-85CB-403E-8BD1-25E20B8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11417-8A95-4E78-BA3E-A5C2C814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89040-FAD6-4D8D-A28C-4C8D4B80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96E04-6C25-4B4F-BE97-0821EB03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001E7-41C3-48F0-A98D-80C19D25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2207-4B57-4D89-BE85-C703835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24D9D-1515-4478-B543-EBB03EE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C0CDD-DAD3-405D-B5A9-C6FFE7A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7EB8-FE18-446E-AF15-C41BE3BF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8059-C02B-435C-AD48-A84D439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F445E-1CA1-410D-BC3B-695015F9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1EFD-3523-4AB1-8F50-9284CED7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451F5-890F-4837-BC1F-43D8C758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49316-72DF-447F-B627-6A38FEC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D5CCE-0FFD-4658-875F-FAC3E7AD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552A9-1A86-4121-80F9-9E36AEC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A53DA-8901-422A-9909-F4CA11C5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65505-8021-445F-BEDB-43BF1475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3D6BC-1171-4461-9C36-D43DB69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A028-4676-4A10-B71A-6291E479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CE354-D4D8-42B7-8576-F47D70EB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5E994-0692-4C07-B447-61CDAD8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813D3-2842-4E08-AAA4-8EBD24D4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F326D-82D5-4D84-9893-DD013DB4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2A779-6FB7-4456-976C-BBBA4D07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F18C0-6CAA-40BF-9698-2F393AAF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A33F5-B639-4140-812C-5FD5F099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94B0E-F500-4BCD-AFF3-5562F599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8E416-50BB-44D8-A0EC-592BC1F8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F556E-F089-4160-A778-9DED65C7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A45D-E5ED-499A-B74F-A15352C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ED83E-F234-4CE1-988A-9AF4ACD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AF43C-F782-46C4-A090-DC9ADA95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9F83D-2BE9-464A-877E-5B2E86A9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97462-059A-4133-8FD3-707EE3E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2D48B-2E50-458D-92FD-A4D4E80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2119D-BB82-4396-8E78-129AC3F3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F680A-B3CD-4A4E-BB7C-BA7D1445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F6664-2BFE-4D13-B60A-389DE76B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A271A-EFBD-426B-B02A-A3F3A5F1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527FD-9F29-425F-AD5A-D8B532C6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ADA4-1D0A-4DB1-ABF1-D82D969F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55A59-66FC-450D-BAE5-337BFD7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AC047-2551-43E2-9A7E-1EC6DA11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21A874-82AF-40B6-B0F8-DFF84226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64467-168B-4F3F-9491-9BD23AE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E8198-DCC0-4832-BDD7-18B02BF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E4E7D-95BE-4444-B55A-53EEBF6C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8B9AEE-9370-4AED-BDB1-88E49500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64DC48-A351-4808-B12B-552C12D8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CDEA72-BC73-4B92-B6FA-1230D960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68991-1D46-406F-86B6-A7FC1FB9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E97E-2CA8-43FB-B7D8-86424538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41230-07CD-4877-9F18-ED6D0A85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BBFA0-273C-46D0-AEC2-DE4BE86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3A569-E039-42F3-8B4A-87EFC908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5B3CD-782B-4FDE-8FDB-2A235462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FD02D-1D07-41A2-AE27-29013CC7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DA8C8-EF50-4145-9E9B-4EBEA476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07AF2-0960-4386-8F2A-1CB6B93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96C67D-28C6-4728-A5CF-0750284F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06F85-C242-4862-9DF0-28EF7E18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FE3E0-B971-4213-BB0D-070BBF51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9230-A2E7-4A39-82F5-A977632A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3CC99-2CB0-458A-AEAD-63D00E9D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CB78D1-C352-4AEE-9D83-5E837A12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BD48C0-3432-48F8-B8DC-951AFD8A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1CB58-16F3-4DA9-A323-F5664F9F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DA066-343F-4A4A-B0A1-CC57506D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6271D-26BA-4D26-8ED9-FB69F92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56930-5C8C-449B-9188-79455037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733AE-A4D7-44A0-8B9C-BD204414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5324A8-4E36-4AB8-A2B7-41CD241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76769-09E5-4AEF-A27F-9EF33511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BE18-9374-4ADD-ADE3-22A51CA6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E42EE-578C-4FE5-AF67-0D768EC8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1BCC4-4F37-4549-BCCB-1705ABD5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E4D43-6BB0-4E45-AEDB-6DF0863A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743D2-7FAD-48AD-BAA0-54E4D5582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E3AED-A84F-4F1A-8F97-C64D952C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48FF9-FAC3-4807-B117-7538AACD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E0ABE-0814-43AF-BE8F-2E69D0BC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F7DDAD-29A4-425B-8FF0-6A02086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F144A-21A8-4277-B5D2-9946A5AC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BDAC5-5880-4B92-857E-557EA9F8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AF2-F544-41B3-813F-E04C2A55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B31C-669F-4D11-B5C7-B74BE0B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D311B-E132-4AEF-B75F-EA19BDD9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143E51-894C-4E3C-ABD7-2AAA2549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CE1011-C422-4124-A230-96D5914A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1ADD8-4F6F-40E1-A22F-8A4BBD6C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CF6B2-2349-4756-B808-0EF6420C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72D54-E9E7-41B8-93E8-37DE37CB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5E589-677F-40BB-B771-F12C0CB2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D16016-1163-481F-B644-A95AFC90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CDC6E-9B48-4AD8-B107-2575B08B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3CE68-5726-4F1F-B874-0876793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2237-AA1A-4454-9E87-CD01CEB1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6EFEA-0343-4FCA-AFBF-FBA851E4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D5CC2C-491C-4059-ADFD-922F646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9B8A3-AB94-4601-B9AA-9996BA2D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83CBDE-950A-4300-B4D4-2FB3285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5881BE-B54B-413B-AC63-EDDFDA7D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8AF83-6312-4415-BA74-1F5B3EDA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662BC3-B1A2-46B8-A0B3-5CE4A957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E3AF2-D5EB-422E-B0A3-A5832B1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1A6BCF-68C1-4933-8821-7AFFCDA3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8A0CA-D235-48E5-B6D8-AB0FFA3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32C2-814E-43F4-925F-28DE31D4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53AE2D-5557-464D-B6D7-8C45213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0EFA59-5EB9-4C79-BB4A-DE02F7E1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76D6CD-B20C-41BA-AEDB-EDABD937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BECB73-BA14-4A20-865C-001EB00A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E6E5A-0F5C-477C-A45E-5957A75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536338-8432-4944-9F46-5CA5CB61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1330F6-4EAE-4146-AC86-15467BA7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D2C82-24D4-4033-B7DE-B15A02CF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7B3D5A-3BC1-4D1B-83EC-C9A16D50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8D65B8-4E81-486B-AC91-7AF74B4C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E54-58A8-4D50-B9E8-1C902E47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86177-5137-4E36-BC94-9AD645FF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ED5BB4-A484-4A76-8470-504D7E60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1E7A7B-46C9-419D-B6A9-F542FB58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F6DFE-721C-4580-A15E-ACD1692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54CA2-0767-493D-94D6-92FC7F79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DB830A-5357-4259-8706-4397F5E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938F12-B034-43FC-94D7-F35A2A34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6ED56-1616-4C78-8DA9-C8BE8FB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D5F790-5D26-4BAC-A1F4-230140A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2732A6-B1BF-4665-9CBC-C963F40E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5FBD-26C5-46B5-98A4-826A29CC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C1CEA-1CA4-4F64-839B-8A8367E5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4BCEB-9578-4D38-B45B-54DD90AA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16009C-28D8-4ED4-9346-350F5F0A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7E311-572B-45F0-A6C6-50463D3E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71A89-3B2C-4D23-9DDE-9DE7446D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37551-40D2-4CFB-9239-18001C92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D3EFF-686A-4778-A761-C2A223F1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40109A-572D-4FBF-871C-CD91F0BE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06C1C-B604-49C4-9DAA-C6541887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1708BA-201B-47E6-A3A6-76C46C1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E1CB-A96F-4E59-B49D-46047EF1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1668FE-48DD-4B58-8E31-DF5BAA6C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EBC2CD-A0AC-48C7-A64A-6569D1BA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1FFC6F-D47B-427A-AFD1-68AADE96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DD73-F996-4EA2-8E94-84C46F3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79535-E6FD-411D-8572-450867DA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E63D-257E-44FA-A385-A06B5926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9089-3AA5-4CE5-A3F8-AC5C942E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058-E342-4732-946D-57216C77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974F3-59F2-4949-BEE3-D981CA97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D975-7D39-4797-8614-CA58259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8450F-FF8D-4DC3-8073-814454E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2A12-F9DC-4593-ACBE-2DBCF848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B3627-180C-484E-9848-0633ABDB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90D8-640C-4AC5-AF0B-F09ACDB6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0034-72CC-4541-BECB-61955BC1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337F0-F278-4C60-90DF-922E493D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9C4C-9C76-4D5C-8278-5B6D964A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FE80-8DF0-4722-9645-A8236C1F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865-3381-4EDE-B365-0C455E8F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AD685-F983-47BB-A07E-6F310197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0E7C3-83E2-4B95-809E-922BF969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810D-9315-4011-A62B-A60C7F92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02303-50D3-4938-B44C-05081F9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6DB0-7F24-4FEA-9040-05A470D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F03FF-096D-4EF5-92D8-A02D6CF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2FDE-420B-4AA5-B502-BC026A8C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985D6-2646-4425-A7AF-AF404CBC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40C1E-02A2-48F1-A946-61DEBF1F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CB3E7-43D7-4D5A-A4D8-FA3AFE52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E808-4A71-40B2-AF7D-9C550E7E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A362E-0745-44D8-989D-B657E78B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99B4-F2BC-4499-876A-77ACFB5B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A414-6937-4CEE-A7C4-5B516EF3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EE3A-2086-4995-95F6-FDE5CAB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1C463-CF08-41DA-801E-78A1E6F0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988D8-F3D0-4377-A6A7-1784A96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44F44-0631-414A-BA48-05A1E61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7116-3EE7-4325-95AE-A7EE3322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15DEE-0F93-4AEA-8E8C-C86B1088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3E0F7-3FE3-4D56-9CBA-D5B88629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C5C-8F14-4E62-BBFB-EB5488A0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B27B2-D565-49F6-8786-C34779F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E82A-4BB6-4F85-8F58-1F0CD88F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23F8-B940-4363-96CE-D0BB433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5B58F-C8EF-4C12-96B2-438192D4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39518-CAC1-4E3B-A7ED-E9F4B67C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80418-A0D3-4245-9D9A-6E6057E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8628-576A-4846-8823-48A64BD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F8461-DB85-46F4-AD53-92D8C5D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C3B5-3CB7-443B-8ADB-7458929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D00D-444B-4452-B309-0E1880B3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078-D5F2-4ED0-8589-7F3639AE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D448-C11C-492E-91E9-289F305E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0EBA-2798-4420-A4BC-65F49CEA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39CE-A915-4EC8-888C-7E36A5B5D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052E-F524-4880-B5B9-BF12F5DE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6C964-1EC7-4A29-B634-5D17B031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67A8-B435-4D50-B100-A62A473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4776-F347-4919-8948-2319245C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B98E7-9EE0-495A-8303-A81628E9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6C3DA-2D7E-4EF5-9946-453E418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E4E7-52CE-4675-96AF-CBFF5D3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602-F19C-4706-9C20-A0105C1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064A-19AB-4A1C-B838-8C349A1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5ED9-9BD3-4DF7-8387-B4BD9A0B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91E8-7214-4ECF-994F-54D2FB18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A857D-BEAC-4A1E-918E-C202A012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EA37-1C71-43C3-9852-8E12FDD0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E776-8142-4DBC-8003-56AB6F9B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2F8C4-581F-403C-9596-6194DEE1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335B3-6992-4179-94A0-9BA0BB31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6DC6B-F979-4B48-8DF4-CED2161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F541D-16BE-4B32-B03B-CEE0FFB9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7FD-EF4E-458D-92BD-923E985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860D-BDBA-4905-87BB-432DE81A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EB9A-6DFB-416C-A5B4-79D35CD2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0975-3911-44E9-B11D-EC7BE4A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B6EBB-0667-493C-A6AA-0C24462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58497-E0B2-4DE0-BB7B-CCC75E09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A4BA-664D-43B7-B54A-A9FB4733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EA0E-B755-4E23-9F41-DFA498AC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5C886-674F-4BF1-8B25-A16731B9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F3679-E545-4398-BB35-A360DE3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CC1B4-7B29-407B-9CCA-70F4FEE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1D96-2743-4543-9151-76BDF8A1B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8C0-F98D-44FF-BDE4-327D1DBA88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E4EB-88F8-4406-8533-87623B81A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F167-43A5-491C-A729-26B2FA215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A927-8152-4E20-959E-41D9BB7DD1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299-EFC8-46CA-BA79-305B3F90B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819-1248-4D1B-8612-5242A5466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7E85-3407-45D2-AD73-36C57B52D6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5662-102F-48B5-B0CE-92C5339624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36B2-0A8D-4472-B110-1D6471C384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E13C-A388-4687-B6E6-20B0B7A83D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03AC-D67E-4FA0-9513-6CE98746B9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7FE6-CB1B-4DC0-8A4C-77E68378C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D53E-0C9A-447D-B4A4-749C5E0363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488A-A15B-421F-BCB2-F6C2B25334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5C44-6FBD-48CD-8216-17A83BC596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F300-5843-4990-8E81-2CE612724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060B-5EB7-4C83-A14F-624AB7D89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337-67FF-4D0F-B943-615A299F7C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36C-3CE4-4CDB-8D14-B8EA799845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A602-6625-4626-93EB-2589366E9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C13D-4DEB-48C6-99B1-94674E773A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392-7244-467F-B63E-07486C48AF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0DB9-57A2-42B6-9F25-BD8E7BCC8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621-CB60-4C1E-AAD2-47DD613DA2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75F5-38B4-4EC2-94C1-89C5F56F7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1759-0587-463C-9CD6-637CC7D7E3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F9B0-4963-48ED-A4DC-7825D1789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3BC0-5EE7-492B-B51D-CDDEBA26B6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C683-2D96-46B7-AC9D-6A0CFB27A6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747E-7361-4EDA-8A7C-E9F7F1139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BBA6-E2A7-4146-B2D5-B820965AB0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249E-94D4-4A72-A069-3058C15702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5F03-069E-42F1-A1E5-EE738A3A5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9AC5-7403-4241-81E9-D7465FDF02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3C47-B48F-439B-ACAB-8D9D5FBFE1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0B56-1622-4DC3-92E3-55EE050066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38B2-5E8F-4978-A699-080E05D5DA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DC4B-997A-495B-9A04-E3F2C058D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E22F-4CC7-460B-8FA3-DE2EC9DA3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266920" y="3014640"/>
            <a:ext cx="46101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96840" y="2846520"/>
            <a:ext cx="8950320" cy="14176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277164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8244000" y="3860640"/>
            <a:ext cx="431640" cy="384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900000" y="386064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4643280" y="386064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57320" y="1332000"/>
            <a:ext cx="8827920" cy="243828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2" descr=""/>
          <p:cNvPicPr/>
          <p:nvPr/>
        </p:nvPicPr>
        <p:blipFill>
          <a:blip r:embed="rId2"/>
          <a:stretch/>
        </p:blipFill>
        <p:spPr>
          <a:xfrm>
            <a:off x="210960" y="3990960"/>
            <a:ext cx="8775720" cy="12762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928800" y="184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900000" y="234936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900000" y="28526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900000" y="33577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900000" y="4437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8"/>
          <a:stretch/>
        </p:blipFill>
        <p:spPr>
          <a:xfrm>
            <a:off x="5479920" y="442260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9"/>
          <a:stretch/>
        </p:blipFill>
        <p:spPr>
          <a:xfrm>
            <a:off x="900000" y="4941720"/>
            <a:ext cx="432000" cy="384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10"/>
          <a:stretch/>
        </p:blipFill>
        <p:spPr>
          <a:xfrm>
            <a:off x="5464080" y="4941720"/>
            <a:ext cx="43200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8" name="组合 6147"/>
          <p:cNvGrpSpPr/>
          <p:nvPr/>
        </p:nvGrpSpPr>
        <p:grpSpPr>
          <a:xfrm>
            <a:off x="157320" y="1614600"/>
            <a:ext cx="8827920" cy="3628800"/>
            <a:chOff x="157320" y="1614600"/>
            <a:chExt cx="8827920" cy="3628800"/>
          </a:xfrm>
        </p:grpSpPr>
        <p:pic>
          <p:nvPicPr>
            <p:cNvPr id="1049" name="图片 2" descr=""/>
            <p:cNvPicPr/>
            <p:nvPr/>
          </p:nvPicPr>
          <p:blipFill>
            <a:blip r:embed="rId1"/>
            <a:stretch/>
          </p:blipFill>
          <p:spPr>
            <a:xfrm>
              <a:off x="157320" y="1614600"/>
              <a:ext cx="8827920" cy="36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" descr=""/>
            <p:cNvPicPr/>
            <p:nvPr/>
          </p:nvPicPr>
          <p:blipFill>
            <a:blip r:embed="rId2"/>
            <a:stretch/>
          </p:blipFill>
          <p:spPr>
            <a:xfrm>
              <a:off x="1403280" y="3255840"/>
              <a:ext cx="7129440" cy="9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1" name="直接连接符 6148"/>
          <p:cNvSpPr/>
          <p:nvPr/>
        </p:nvSpPr>
        <p:spPr>
          <a:xfrm>
            <a:off x="1547640" y="3241800"/>
            <a:ext cx="2160720" cy="1050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6149"/>
          <p:cNvSpPr/>
          <p:nvPr/>
        </p:nvSpPr>
        <p:spPr>
          <a:xfrm flipH="1">
            <a:off x="1618920" y="3227400"/>
            <a:ext cx="2089080" cy="1065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6150"/>
          <p:cNvSpPr/>
          <p:nvPr/>
        </p:nvSpPr>
        <p:spPr>
          <a:xfrm>
            <a:off x="6084720" y="3213000"/>
            <a:ext cx="2160720" cy="10512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6151"/>
          <p:cNvSpPr/>
          <p:nvPr/>
        </p:nvSpPr>
        <p:spPr>
          <a:xfrm flipH="1">
            <a:off x="5940000" y="3227400"/>
            <a:ext cx="2089080" cy="10652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3:42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